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4099-97FE-49F5-B0F9-4AA9FA8A0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F7FB-C081-4D26-97B8-1DC547280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EE8-DB37-4F25-AF1E-00B6FBE5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641-BA16-4CFC-9C25-3481368B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AA8-6EDF-4C11-9C85-01395E50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441-F3E2-4689-B237-544184CB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F59-F197-4854-B7DC-8251FA5C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53B-A6F1-4E3F-BCA4-27534CD7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06B-99A0-45B5-9D2A-4EE9C9FC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BC7-637A-4F28-930A-DE416D1D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E74-BDE0-406B-A784-4CCBD37B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C9A-640F-4080-91BF-0C8D4C1F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021-E08F-4485-9044-3104FCB0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B14-AE7B-4C75-852E-86D46A1A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78B0-B299-44CA-A066-E4F858DEB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farm3.static.flickr.com/2386/2145079381_bf78526077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Russia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6151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Declan, Amanda and Raym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ussia’s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1240" y="167652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ssia has many natural resources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ld, nickel, coal, petroleum, copper, fish, bauxite, iron ore, lead, tin, and zin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2009, Russia was the world’s leading exporter of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2008, Russia was 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ding producer of electricity (1.04 trillion kW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ussian Port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ssia has many port cities such as Kaliningrad, St. Petersburg, Murmansk and Vladivost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Port Cities are important because they increase the opportunity of trade with other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of these Port Cities, Russian’s are allowed the goods they need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Kaliningrad and Vladivostok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aliningrad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Baltic port in north-wes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onnection to other Russian territo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manufacturing 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-f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ladivostok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-eastern port in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ce-free port in mainland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ocean port on Pacific coast in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industries are fishing and enginee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urmansk and St. Petersbu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rmansk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kola peninsu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Falling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viet Union fell in 1991. Since then, Russia has been trying to rebuild ec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crisis in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oil company’s CEO was arrested in 200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banking system and poor economic grow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22:06:37Z</dcterms:created>
  <dc:creator>Michelle</dc:creator>
  <dc:description/>
  <dc:language>en-US</dc:language>
  <cp:lastModifiedBy>Amanda</cp:lastModifiedBy>
  <dcterms:modified xsi:type="dcterms:W3CDTF">2010-12-14T21:19:47Z</dcterms:modified>
  <cp:revision>13</cp:revision>
  <dc:subject/>
  <dc:title>Russia Economy</dc:title>
</cp:coreProperties>
</file>